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7A3-6F84-4F24-8984-5403DDA87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8BB2-C6ED-4411-B4C4-F8C235C405D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0CDE-0B84-43DF-B1B1-91C91471F99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4CD2-F72E-44ED-8204-5B69A93EE0E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BBC1-AD4E-472B-853A-B864D3D4C7D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1C9-4C82-453F-9883-2320A5B303A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F51-C1F0-41D8-B77A-A2F1DE2C0F4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D75C-68F4-4D1E-A2A6-12FCCB33DC8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C1D-9C0C-45BE-9F93-42FE4555005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CF9D-7D91-4239-8C44-A3F847BDD95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C22-7922-4304-B103-5859B84A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53E-E898-4F6B-9A3C-6EE5275B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6CC-61FE-4D82-98D7-DA1675F3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E6F-9408-474C-AC8F-C59DA7AE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B13F-30F5-42F4-A2B5-DC582B89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D9A-AA50-4F22-B288-48953736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B877-BABD-4BDB-B4C9-145F125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10E3-ECE2-415C-AFB3-B202776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1B1B-BE69-4900-84A8-23E2792A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69B1-1527-4B15-B5BD-AEB0D7FC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5E73-EB56-416B-85C8-B95AB0C0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C0F-D0A4-4533-BFB7-F630F73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A14A-2CD6-490A-B10A-B7B2AED1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BF1-FB0B-4B92-B388-A4D986D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53A3-87FC-4745-9995-F8C0B1D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4324-56B4-45F1-A97C-72829284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3973-E38F-4065-B006-BCDE7312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259-2F84-4DDE-8EA8-24DC2B9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05E-FBC1-42E6-AD9A-1D31FAF0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B2E-E7B5-4A78-8FE9-6CAA1027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A4F-4B69-4605-A793-58B8AA2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D48-3E62-474B-B3C3-AA9FF6E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63C-45DB-4A1A-9BC6-0BF1FCBA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28A-8768-4464-92C1-6C8B9879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723-69DB-4D18-B8AC-2F4624F1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F9F9-187C-4212-8833-21D96BEC5FED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Chapter 21, Part 2 Not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Tahoma"/>
              </a:rPr>
              <a:t>Relationships Among Living Th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organize living things into groups to make it easier to study ecosystem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a group of the same type of organisms living in the same plac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ll of the populations that live in an area make up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want to know 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 population, where its members live, and how it is able to stay ali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determin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ens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by comparing the size of a population with its area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us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to study populations of animals that travel long dista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pulations do not have enough resources to grow larger and larger forev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gs that limit the size of a population are called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ing factor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miting factors includ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oo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ving sp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and othe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ost common interactions in a community ar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eeding interaction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ganisms will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any resources that is in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ed suppl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gre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population 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n an area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greater t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i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the act of one organism feeding on ano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of prey, such as a falcon, is an example of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field mouse is an example of a flacon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-- the organism it ea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the African tickbird eats insects off an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,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oth organisms benefit. 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Symbiotic or</a:t>
            </a:r>
            <a:r>
              <a:rPr b="1" lang="en-US" sz="2800" spc="-1" strike="noStrike">
                <a:solidFill>
                  <a:srgbClr val="87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mutual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971800" cy="186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038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sects biting a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harm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zebra, but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enefit themselves. 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parasit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that builds its nest in a tree benefits but the tree i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eith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rm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elp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ach type of organism has a different role to play in an ecosyst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ol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n organism in an ecosystem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ic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where an organism lives out its life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bita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8:56:56Z</dcterms:created>
  <dc:creator>Administrator</dc:creator>
  <dc:description/>
  <dc:language>en-US</dc:language>
  <cp:lastModifiedBy>Denice Fogel User</cp:lastModifiedBy>
  <dcterms:modified xsi:type="dcterms:W3CDTF">2013-06-09T21:29:24Z</dcterms:modified>
  <cp:revision>58</cp:revision>
  <dc:subject/>
  <dc:title>Slide 1</dc:title>
</cp:coreProperties>
</file>